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055-DFB5-4362-AE4C-316A2F25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CA2-27B3-4D34-A577-CDE02C74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C82-7AE8-445F-A3A0-AAC7466A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D2A-8AA4-4133-ADB2-8FDB4944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C54A-E4E3-404D-9BA5-CB80C492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23D9-BF4A-4CCF-A695-B0C54A9C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C1CC-4510-4477-B6C5-D7354E4A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F023-69B5-47B6-AC36-075C17C3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0437-0ADF-4CD7-8758-35083CE6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76CA-FB84-48AD-ABB6-D33C6794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C133-C00E-4DAA-A747-4053C97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EEC-BBFA-4E05-8DD8-831D7A7F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90CB-6944-4608-B172-52A6B81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2283-FD6C-4A9B-A815-F10E6273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9DA5-10B1-49AE-9FB1-A0315081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E00C-16D8-47E9-AF36-7B933062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A40F-3DAF-4904-9F60-963955B6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A60-B859-4AF7-BB3E-3B3E5E14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330-28F2-4660-8652-E305D253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A46-9AD2-4FDB-B06D-79A98832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D83-17E5-4B92-9D5F-08A7997B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947-83E4-4EC4-B348-00E7E8B8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3EB-FFD7-4022-A0E8-49B6633B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336-6324-4363-B5F4-1B3F422A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A8C4-5F3A-4453-870E-91393450A81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7749-2358-4C2A-9CE0-0A50DCB5EB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6633"/>
                </a:solidFill>
                <a:latin typeface="Garamond"/>
              </a:rPr>
              <a:t>EPH SOMINE DOLO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393336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INT SUR LES CONDITIONNALITES SUSPEN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372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POINT DU PROCESSUS DE VALIDATION DU PE 2009-201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6633"/>
                </a:solidFill>
                <a:latin typeface="Garamond"/>
              </a:rPr>
              <a:t>I) Observations d’amélioration du P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résentation du document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aintenir la présentation actuell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évelopper le résumé exécutif (inclure les synthèses des activités médico-techniques et financières ; les tableaux des ressources humaines, etc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hanger le titre du chapitre faisabilité par « Faisabilité Financière 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ettre le coût de construction et des équipements du nouvel hôpital à titre indicatif, ne pas l’inclure dans le coût global du proje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s le compte d’exploitation, tenir compte des subventions de l’Etat prévues dans le cadre de développement à moyen terme (CDMT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des programmations des recettes propres de façon raisonnable (tenir compte du poids de la gratuité, de l’effet de la délocalisation, et d’autres pesanteurs susceptibles d’influencer le niveau des recette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un chronogramme de délocalisation en prenant comme point de départ Septembre 20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aborer une stratégie de gestion des catastrophes dans le projet gestion et le plan MASH (mise en alerte des services hospitalier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dans la méthodologie toutes les démarches de projection des activit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ésenter la stratégie de communication sous forme de tableau avec les coûts par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6633"/>
                </a:solidFill>
                <a:latin typeface="Garamond"/>
              </a:rPr>
              <a:t>I) Observations d’amélioration du PE (suit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6633"/>
                </a:solidFill>
                <a:latin typeface="Garamond"/>
              </a:rPr>
              <a:t>II) Agenda de validation du P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0 Mars 2009 approbation par le CA extraordi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1 Mars transmission du document à la tut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33"/>
                </a:solidFill>
                <a:latin typeface="Garamond"/>
              </a:rPr>
              <a:t>CALENDRIER DE LEVÉE DES AUTRES  CONDITIONNALITÉS SUSPENSIVE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Contrat de performance (Evaluation de la performance par l’ANEH)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Bilan d’exécution du PE  2004-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Rapports d’activités 2004 à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rojet d’Etablissement 2009- 20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Tous disponibles le 31 Mars 2009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6633"/>
                </a:solidFill>
                <a:latin typeface="Garamond"/>
              </a:rPr>
              <a:t>Je vous remercie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6:51:27Z</dcterms:created>
  <dc:creator>User</dc:creator>
  <dc:description/>
  <dc:language>en-US</dc:language>
  <cp:lastModifiedBy>User</cp:lastModifiedBy>
  <dcterms:modified xsi:type="dcterms:W3CDTF">2009-03-09T13:18:55Z</dcterms:modified>
  <cp:revision>7</cp:revision>
  <dc:subject/>
  <dc:title>EPH SOMINE DOLO</dc:title>
</cp:coreProperties>
</file>