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3076-73B5-4498-9984-09D062C49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C075-FA25-45C2-B9DC-D2540B25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094B-D444-473F-8206-4585E15B3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9035-2FBB-4158-B7A2-6221786B3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B62E-15D2-47F8-8C7D-3D27D705C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B665-695B-486C-A6BC-4BF703C2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2446F-DBC8-43CD-9C9E-B46975B7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5C6E-5BB0-4E45-970A-FC84A37B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2566-9219-4D90-99ED-86A0B786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F259-8387-4CE6-AD0F-83F96112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21C7-110A-47AB-B02A-1520AB09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5A5C-2100-4FAD-B119-A4C72CD9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AD518-202E-475C-8B9A-65A5B540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66BA-FD55-4018-853E-79A72874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76EDA-D6E4-4E28-84C5-F199AA77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6A17-305F-4DBF-9140-2A094DA30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0B8D-0363-4D88-AFCB-C1D0E0BB8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26BE-BE54-42DA-BDA9-A7B610AB8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7640-E508-48C7-AFF5-3718FF27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1D58-DC4D-4D75-BCC8-1CB9948B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7A38-70C7-4548-8BC1-C0389270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12E1-A30A-4E67-97DC-CDACA834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8DE8-46C3-4250-AB03-2C75B76B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A179-A4AC-4598-8CFF-F3E5ADE7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BF0B-EEBA-4387-B565-D1AE309D520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776D-C861-4163-8FDE-3C8F5DB5CDE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6633"/>
                </a:solidFill>
                <a:latin typeface="Garamond"/>
              </a:rPr>
              <a:t>EPH SOMINE DOLO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79280" y="3933360"/>
            <a:ext cx="6553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INT SUR LES CONDITIONNALITES SUSPENS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2060640"/>
            <a:ext cx="83725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006633"/>
                </a:solidFill>
                <a:latin typeface="Garamond"/>
              </a:rPr>
              <a:t>POINT DU PROCESSUS DE VALIDATION DU PE 2009-201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6633"/>
                </a:solidFill>
                <a:latin typeface="Garamond"/>
              </a:rPr>
              <a:t>I) Observations d’amélioration du P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Présentation du document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Maintenir la présentation actuell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Développer le résumé exécutif (inclure les synthèses des activités médico-techniques et financières ; les tableaux des ressources humaines, etc.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hanger le titre du chapitre faisabilité par « Faisabilité Financière 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Mettre le coût de construction et des équipements du nouvel hôpital à titre indicatif, ne pas l’inclure dans le coût global du projet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Dans le compte d’exploitation, tenir compte des subventions de l’Etat prévues dans le cadre de développement à moyen terme (CDMT)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aire des programmations des recettes propres de façon raisonnable (tenir compte du poids de la gratuité, de l’effet de la délocalisation, et d’autres pesanteurs susceptibles d’influencer le niveau des recettes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aire un chronogramme de délocalisation en prenant comme point de départ Septembre 201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laborer une stratégie de gestion des catastrophes dans le projet gestion et le plan MASH (mise en alerte des services hospitaliers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liquer dans la méthodologie toutes les démarches de projection des activité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ésenter la stratégie de communication sous forme de tableau avec les coûts par activ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6633"/>
                </a:solidFill>
                <a:latin typeface="Garamond"/>
              </a:rPr>
              <a:t>I) Observations d’amélioration du PE (suite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6633"/>
                </a:solidFill>
                <a:latin typeface="Garamond"/>
              </a:rPr>
              <a:t>II) Agenda de validation du P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20 Mars 2009 approbation par le CA extraordin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31 Mars transmission du document à la tut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6633"/>
                </a:solidFill>
                <a:latin typeface="Garamond"/>
              </a:rPr>
              <a:t>CALENDRIER DE LEVÉE DES AUTRES  CONDITIONNALITÉS SUSPENSIVES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Contrat de performance (Evaluation de la performance par l’ANEH)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Bilan d’exécution du PE  2004-2008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Rapports d’activités 2004 à 2008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Arial"/>
              </a:rPr>
              <a:t>Projet d’Etablissement 2009- 201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 u="sng">
                <a:solidFill>
                  <a:srgbClr val="000000"/>
                </a:solidFill>
                <a:uFillTx/>
                <a:latin typeface="Arial"/>
              </a:rPr>
              <a:t>Tous disponibles le 31 Mars 2009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22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6633"/>
                </a:solidFill>
                <a:latin typeface="Garamond"/>
              </a:rPr>
              <a:t>Je vous remercie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16:51:27Z</dcterms:created>
  <dc:creator>User</dc:creator>
  <dc:description/>
  <dc:language>en-US</dc:language>
  <cp:lastModifiedBy>User</cp:lastModifiedBy>
  <dcterms:modified xsi:type="dcterms:W3CDTF">2009-03-09T13:18:55Z</dcterms:modified>
  <cp:revision>7</cp:revision>
  <dc:subject/>
  <dc:title>EPH SOMINE DOLO</dc:title>
</cp:coreProperties>
</file>