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81800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ECCE2-85AF-4C2A-AFED-5451B4BE5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CE42F-1224-4A43-819C-5C92B2993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F7B79-F3BE-4039-BFB1-9A7F75056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5041E-4109-4707-B011-51B11B980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36D65-9908-42B9-9C8F-092E1E845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C99D9-DC42-4C67-86CB-8B1149540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6E890-FEE0-4F5D-A09E-21B7AE883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786A1-C6F2-40BD-A618-3CA2470F6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FB857-E497-45A5-BAF4-1BCE30256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DA57C-1E9E-4A2F-B32F-081A8660D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2ED7A-9278-4B2A-901F-A72E39C35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4FBCE-B097-45F6-9AB3-35F0F92F6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89FB3-8DA0-48D6-8635-EC8D523732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000" y="1412640"/>
            <a:ext cx="813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apport d’activités de l’An III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835280" y="2637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gramme d’Appui au Développement Sanitaire &amp; Social en 5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èm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ég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État d’exécution du PO 2008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/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omposante Santé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DRS a réalisé quatre activités sur les 10 programmé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uls trois cercles ont réalisé toutes les activités programmées : Djenné, Douentza &amp; Mopt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s autres cercles ont réalisé les activités programmées à divers degré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État d’exécution du PO 2008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3/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ur l’INFSS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s deux activités programmées pendant le premier semestre ont été mises en oeuv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ur l’HSD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cune des cinq activités programmées pour le premier semestre - stages de perfectionnement ou recyclage et supervision des CSRef - n’a été réalisée au 31 décembre 2008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État d’exécution du PO 2008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4/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33399"/>
                </a:solidFill>
                <a:latin typeface="Arial"/>
              </a:rPr>
              <a:t>Second semest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Aucune des activités programmées des deux composantes pour le n’a pu être mise en œuvre au 31 décembre 2008, du fait des activités non planifiées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Ratissages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SIAN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ilan financier PO 2008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1/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ntant du PO validé : 214.797.634 CF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udget total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écaissé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  189.772.302 FCFA (88%) dont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9% pour le volet Santé, y compris l’HSD et  l’INFSS 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1% pour le volet Développement Soci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ilan financier PO 2008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2/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Montant justifié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u 31 décembre 2008 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 total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94.108.19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rancs ont été justifiés sur la somme de 189.772.302 francs CFA décaissée pour le  PO 2008, soi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9.59%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u montant décaiss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1%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u montant d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30.880.502 francs CFA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écaissé pour les activités d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Santé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0%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u montant d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8.891.800 francs CFA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écaissé pour les activités d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Développement Soc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 montant justifié  représente 4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%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u montant du PO 2008 valid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commandations de la réunion préparatoire du CTP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(1/2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ifier mission CEPRIS/DRS/AC/SS pour identifier &amp; quantifier les besoins en réhabilitation et équipement parmi les 10 CSCom sélectionnés par DRS, afin de pouvoir utiliser le reliquat de la construction des 5 CS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ustifier la mise en œuvre des activités planifiées dans le PO 2008 de HSD avant fin mars 09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commandations de la réunion préparatoire du CTP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(2/2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aborer un plan de développement pour l’INFSS sur 3 ans pour permettre une vision d’ensemble des activités de l’éco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rofondir le début d’analyse des activités phares du PADSS (formations, ASACO, référence-évacuation, supervision, etc.) afin de tirer les leçons et capitaliser les acquis pour le fut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s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inq CSCom à construire sont définitivement les suivants 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CSCom de Koporo-Na (cercle de Koro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CSCom de Ouenkoro (cercle de Bankass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CSCom de Dioura (cercle de Ténenkou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CSCom de Kouakourou 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CSCom de Gagna (cercle de Djenné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SCom proposés pour bénéficier de réhabilitation, d’équipement et de dotation en M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611280" y="1165320"/>
          <a:ext cx="7921440" cy="5073480"/>
        </p:xfrm>
        <a:graphic>
          <a:graphicData uri="http://schemas.openxmlformats.org/drawingml/2006/table">
            <a:tbl>
              <a:tblPr/>
              <a:tblGrid>
                <a:gridCol w="865080"/>
                <a:gridCol w="4103640"/>
                <a:gridCol w="29527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m du CSCom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rc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ouro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andiagar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iallassago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ankas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ofar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jenn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or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ouentz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inangouro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or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iankabo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or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oufouroulay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pt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iafarab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énenko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ialloub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pt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on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ouentz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Formations non diplômantes à l’HSD du personnel des CSRef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édecins généralistes dotés de compétences chirurgical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irmiers, sages-femmes et techniciens de santé dotés de compétences en anesthésie et réanimation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irmiers et techniciens de santé dotés de compétences en aide-chirurgie et en odontostomatologi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ésultats intermédiaires des stages à l’HSD des agents des CSR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Médecin de Douentza : après deux mois de travail, 30 interventions chirurgicales dont 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9 césarienne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10 cures herniaires pour neuf hernies simples et une hernie étranglé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4 hydrocèle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4 lipomectomies 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3 appendicectom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lques Résultats, Stages à l’HSD des agents des CSRef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/4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irmier de Bandiagara : après 15 mois de travail (2007-2008)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65 rachianesthésie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1 anesthésies générales sans intub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0 anesthésies générales avec intub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3 anesthésies loca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ormations à l’HS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 PO 2008, sur sept formations du personnel des CSRef programmées à l’HSD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ux seulement ont été réalisées 31 décembre 20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atre formations ne sont pas encore réalisées, dont trois programmées pour l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èm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emestre 2008 et une programmée pour le 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emest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e formation programmée pour être réalisée au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èm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semestre 2008 a été annulé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Évolution de la couverture sanitai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57200" y="1600200"/>
          <a:ext cx="7461360" cy="4618080"/>
        </p:xfrm>
        <a:graphic>
          <a:graphicData uri="http://schemas.openxmlformats.org/drawingml/2006/table">
            <a:tbl>
              <a:tblPr/>
              <a:tblGrid>
                <a:gridCol w="3251160"/>
                <a:gridCol w="1008000"/>
                <a:gridCol w="1008000"/>
                <a:gridCol w="1008360"/>
                <a:gridCol w="11858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icateurs couver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J 200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pop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&lt; 5 k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,6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,0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pop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&lt; 15 k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,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2,6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ux cons. curat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ux CPN 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ux acc assisté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ux préval. Contrac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7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0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6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ux ECV au DTCP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ux ECV au V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ux FE VAT2/Rappel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État d’exécution du PO 2008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1/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Premier semest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omposante Développement Soci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DSES a réalisé six des sept activités programmé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us les cercles ont réalisé toutes les activités programmées 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6T11:58:14Z</dcterms:created>
  <dc:creator>USER</dc:creator>
  <dc:description/>
  <dc:language>en-US</dc:language>
  <cp:lastModifiedBy>SOFRECO</cp:lastModifiedBy>
  <dcterms:modified xsi:type="dcterms:W3CDTF">2009-03-08T16:07:44Z</dcterms:modified>
  <cp:revision>19</cp:revision>
  <dc:subject/>
  <dc:title>Rapport d’activités de l’An 2 </dc:title>
</cp:coreProperties>
</file>