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BBCAB-99AB-4A95-B325-E5EAC5C32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6D675-9C00-4467-9FFE-12695DAA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F434B-E983-49E4-BC3F-58DB68995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D8F3B-E4CA-4DE8-A3DA-BF4C8BC29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05C8-5FF8-48CC-B43E-46EC972FF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7CFD-B5D1-45AD-947F-6482B163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D219-83EF-4049-89AF-44598946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D872-8760-43F0-8724-C714C58F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A2B5-88CC-45A2-9131-5118D42A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7C04-3921-4385-BC1D-2594E38E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51B5-C630-499D-A581-55331BAE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1E5FA-4AAD-4421-8CA9-4E080ACF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FB3A-5157-4F86-B6E5-FD90B2E8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10B5-4609-438E-9784-29D727D8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EEA7-4DE0-451A-AA23-E6792C8A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E59D-2680-4951-93BC-2548AE9B0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0F6D-DF44-4339-BE76-F0FC5FA29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8C8A3-7A3A-4FF6-9E7B-B8FA43A2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8C0F1-4C24-480E-9278-1A75B1D8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AF81B-0058-4AB6-927C-D2F9CC50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880B7-5622-4C8F-A626-1E2BA512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9A19F-852B-4EE0-83E6-8D0D308A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19591-1820-48CE-B7AD-868147DB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25F33-BF01-4B33-9123-358D40B3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4393-5CC6-4150-9A94-F0CC15DE24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C4CF-1194-414B-88A2-A66FB33C9F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PADS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ivi financier de la composante régiona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iements au 07/03/2009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56000" y="1600200"/>
            <a:ext cx="253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ce jour, 42% du montant total de la composante a été versé à la D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68360" y="1557360"/>
          <a:ext cx="5398920" cy="5043600"/>
        </p:xfrm>
        <a:graphic>
          <a:graphicData uri="http://schemas.openxmlformats.org/drawingml/2006/table">
            <a:tbl>
              <a:tblPr/>
              <a:tblGrid>
                <a:gridCol w="3341520"/>
                <a:gridCol w="20574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Montant de la composan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2 755 019 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O 20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73 4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RECROCE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 534 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O 2006 Semestre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26 317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O 2007 Semestre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80 0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O 2007 Semestre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218 742 3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O 2008 Semestre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25 036 8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O 2008 Semestre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62 518 4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O 2009 Semestre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58 375 5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Total des versements effectué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 147 924 68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Sold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 607 094 7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NGAGEMENTS REALI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600200"/>
          <a:ext cx="4038120" cy="4524840"/>
        </p:xfrm>
        <a:graphic>
          <a:graphicData uri="http://schemas.openxmlformats.org/drawingml/2006/table">
            <a:tbl>
              <a:tblPr/>
              <a:tblGrid>
                <a:gridCol w="2499120"/>
                <a:gridCol w="1539000"/>
              </a:tblGrid>
              <a:tr h="904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826920" y="1600200"/>
          <a:ext cx="7859880" cy="4525920"/>
        </p:xfrm>
        <a:graphic>
          <a:graphicData uri="http://schemas.openxmlformats.org/drawingml/2006/table">
            <a:tbl>
              <a:tblPr/>
              <a:tblGrid>
                <a:gridCol w="4864320"/>
                <a:gridCol w="2995560"/>
              </a:tblGrid>
              <a:tr h="75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O 2009 Semestre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50 000 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O 20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623 000 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Recherche ac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20 000 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Versement AGETIPE 20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20 000 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Boursiers 20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5 000 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Montant des engagem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 148 000 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appels des engagements 2009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ns le PO 2009, sont prévus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80 millions au titre de la convention AGETIPE (120 millions au semestre 1 + 60 millions au semestre 2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20 millions en provision pour un avenant AGETIPE (semestre 2) pour assurer la réalisation rapide d’une seconde vague de CSCOMS à réhabiliter / à confirm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0 millions pour le paiement UTM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évisions engagements 2010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ns le PO 2010, sont prévus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 millions au titre de la convention AGETIP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81 millions pour le paiement UTM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ntant restant à engag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5092560"/>
                <a:gridCol w="3137040"/>
              </a:tblGrid>
              <a:tr h="1508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Solde de la composan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 607 094 7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ngagements pr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 148 000 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Reste à engager d’ici 2011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 3"/>
                          <a:ea typeface="Wingdings 3"/>
                        </a:rPr>
                        <a:t>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459 094 7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7T10:28:18Z</dcterms:created>
  <dc:creator>Olivia Vella</dc:creator>
  <dc:description/>
  <dc:language>en-US</dc:language>
  <cp:lastModifiedBy>Administrateur1</cp:lastModifiedBy>
  <dcterms:modified xsi:type="dcterms:W3CDTF">2009-03-08T15:21:43Z</dcterms:modified>
  <cp:revision>10</cp:revision>
  <dc:subject/>
  <dc:title>PADSS</dc:title>
</cp:coreProperties>
</file>