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DB1-10A0-4FED-9D8C-06233B87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DC3-110C-4A30-A3A2-846E2D8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15B-B028-4618-9BE6-68690E07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F20-59E6-4CC4-B547-10DAA9B4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4CF-3CE8-46A2-8FAB-553DFBA0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B7CF-B048-43AD-826F-9B94679B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314-B784-44EB-B775-1C7023F5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77B-347C-4A85-AE42-BA3C512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4A2D-89E1-4B82-91A8-7AEF1DAF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909-6333-4973-B432-946EF07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EA5-BC7B-4A7D-8BB4-C0089FDB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B42-CD63-4498-AD83-770A9EF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277-AA36-45CD-84FB-00EC41E2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DICALISATION DES CSCom DANS LA REGION DE MOP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NS LE CADRE DU PAD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 de la médic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er des médecins dans des CSCom  en milieu rural en s’appuyant sur le concept de « médecin de campagne »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gmenter l’accès des populations rurales de la région de Mopti à des soins médicalisés de qualit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933720"/>
            <a:ext cx="288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1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1: Les médecins généralistes et leurs équipes sont opérationnels sur l’ensemble des cinq aires de san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Boré (Douent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farabé (Ténenk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Dialassagou (Banka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Konan (Mop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SCom de Sofara (Djen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ésultats attendus de la médicalisation des CSCom (4/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2: Le suivi montre une amélioration des indicateurs d’activité et une gestion satisfaisan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ationalisation des ordon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rmanence  des services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obalité des so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des soins (CPN, Accouchement, CPoN, PF, PEV, S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élioration du remplissage des su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trat signé avec SS pour la suite médicalisation : 5 nouveaux CSCom en 2009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crutement de cinq nouveaux médecins généralist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tude de faisabilité dans une dizaine de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élection des cinq nouveaux CSCom à médicaliser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nsibilisation des parties prenantes (ASACO, mairies, ECD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des cinq médecins généralistes retenu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és prévues dans le cadre du contrat signé avec SS pour la suite de la médicalisation de cinq nouveaux CSCom en 200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Équipement et installation officielle des médecins dans les cinq CS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rmation en gestion des ASAC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formatifs des médecins dans les CSCom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uivis des CSCom médicalisés depuis la 1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phase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ise en réseau des médecins avec l’AMC, réunions générales, etc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e vous remerci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1:17:58Z</dcterms:created>
  <dc:creator>USER</dc:creator>
  <dc:description/>
  <dc:language>en-US</dc:language>
  <cp:lastModifiedBy>SOFRECO</cp:lastModifiedBy>
  <dcterms:modified xsi:type="dcterms:W3CDTF">2009-03-08T16:23:02Z</dcterms:modified>
  <cp:revision>13</cp:revision>
  <dc:subject/>
  <dc:title>MEDICALISATION DES CSCom DANS LA REGION DE MOPTI</dc:title>
</cp:coreProperties>
</file>