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20E-F900-4F16-93E8-D02EDD7D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DE7-C8D3-4208-B75F-19D154D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D7E-EDF8-441B-BC2E-0E635B6C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72A-34EC-48AC-A085-64752762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B69-5F94-4C35-8E88-347FC92F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C95-80B9-40CD-86A6-58E1B88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0E8-AA6A-434A-9197-467DF04E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897-F6DE-4CE3-9EF8-15C94EA7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597-5BC5-4D62-852B-3868FB4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154-05F3-4861-87EE-0F9130C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88F-D20B-468E-962E-4F58F70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DD8-F091-433B-AF11-251EC8C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EF08-08FD-4C01-ACF4-F82BD875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ISATION DES CSCom DANS LA REGION DE MOP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E CADRE DU PAD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 de la médic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r des médecins dans des CSCom  en milieu rural en s’appuyant sur le concept de « médecin de campagne »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gmenter l’accès des populations rurales de la région de Mopti à des soins médicalisés de qual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933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1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1: Les médecins généralistes et leurs équipes sont opérationnels sur l’ensemble des cinq aires de san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Boré (Douent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farabé (Ténenk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lassagou (Bank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Konan (Mop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Sofara (Djen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4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2: Le suivi montre une amélioration des indicateurs d’activité et une gestion satisfaisan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onalisation des ordon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manence  des services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obalité des so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des soins (CPN, Accouchement, CPoN, PF, PEV, S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élioration du remplissage des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rat signé avec SS pour la suite médicalisation : 5 nouveaux CSCom en 2009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crutement de cinq nouveaux médecins généralis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tude de faisabilité dans une dizaine de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élection des cinq nouveaux CSCom à médicaliser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nsibilisation des parties prenantes (ASACO, mairies, ECD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des cinq médecins généralistes reten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és prévues dans le cadre du contrat signé avec SS pour la suite de la médicalisation de cinq nouveaux CSCom en 20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quipement et installation officielle des médecins dans les cinq CS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en gestion des ASAC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formatifs des médecins dans les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des CSCom médicalisés depuis la 1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phas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ise en réseau des médecins avec l’AMC, réunions générales, etc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 vous remerci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17:58Z</dcterms:created>
  <dc:creator>USER</dc:creator>
  <dc:description/>
  <dc:language>en-US</dc:language>
  <cp:lastModifiedBy>SOFRECO</cp:lastModifiedBy>
  <dcterms:modified xsi:type="dcterms:W3CDTF">2009-03-08T16:23:02Z</dcterms:modified>
  <cp:revision>13</cp:revision>
  <dc:subject/>
  <dc:title>MEDICALISATION DES CSCom DANS LA REGION DE MOPTI</dc:title>
</cp:coreProperties>
</file>