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5A45-D8ED-4ABA-AFE4-B77FF6577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058F0-5FB1-4965-81B0-EF7E8C9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D204-C585-4ECC-8A8B-5DF45B84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DE33-7803-43AF-8702-42989B9A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F28B-A9BB-403A-8CA1-DEFA3B46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517-FA12-46B8-AF1C-4D980418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003-820E-4C61-B259-254EEAD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060-8FAF-41A3-BCD9-E95B0F82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B2E5-8348-4AC3-8269-7F30AFB4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4DFE-38C7-4265-87A6-A477AB4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39AE-A193-4FF1-9F9D-05BD951B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1FB3-9117-4C79-872F-48334F7E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74F2-8034-45D4-8B14-24D10D3E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78E7-C6AA-4EE2-BC84-EDFAC752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91F2-21A7-433A-A81B-80481A6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EC18-430E-45A2-8A8D-1BBAA092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CE19-687C-4998-A75B-AAA58407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7716-F49B-4D16-8D06-412FD3B9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4F7B-1F99-41D2-86F7-81C23FBC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EF44D-21C6-484A-8B0E-B1EE85C7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7AB27-0A89-4907-BD42-6988D95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39E4-D37D-40D0-8C51-CB126E0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FBB0-42D5-4B6C-8EBC-DF29012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23FB-93F5-4B13-BE21-5AFBD8B5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C5D7-4028-4C99-B4A2-7154D9286F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5A6A-9AE5-4FE5-A9C2-1716D539E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AD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ivi financier de la composante région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iements au 07/03/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5600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e jour, 42% du montant total de la composante a été versé à la D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557360"/>
          <a:ext cx="5398920" cy="5043600"/>
        </p:xfrm>
        <a:graphic>
          <a:graphicData uri="http://schemas.openxmlformats.org/drawingml/2006/table">
            <a:tbl>
              <a:tblPr/>
              <a:tblGrid>
                <a:gridCol w="3341520"/>
                <a:gridCol w="20574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 la composa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 755 019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3 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RECROC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 534 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6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6 317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80 0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7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18 742 3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5 036 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8 Semestre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 518 4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8 375 52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Total des versements effectué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7 924 68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NGAGEMENTS REALI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600200"/>
          <a:ext cx="4038120" cy="4524840"/>
        </p:xfrm>
        <a:graphic>
          <a:graphicData uri="http://schemas.openxmlformats.org/drawingml/2006/table">
            <a:tbl>
              <a:tblPr/>
              <a:tblGrid>
                <a:gridCol w="2499120"/>
                <a:gridCol w="1539000"/>
              </a:tblGrid>
              <a:tr h="90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26920" y="1600200"/>
          <a:ext cx="7859880" cy="4525920"/>
        </p:xfrm>
        <a:graphic>
          <a:graphicData uri="http://schemas.openxmlformats.org/drawingml/2006/table">
            <a:tbl>
              <a:tblPr/>
              <a:tblGrid>
                <a:gridCol w="4864320"/>
                <a:gridCol w="2995560"/>
              </a:tblGrid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09 Semestre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PO 20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623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cherche a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Versement AGETIPE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20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Boursiers 20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5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Montant des engag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appels des engagements 2009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09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80 millions au titre de la convention AGETIPE (120 millions au semestre 1 + 60 millions au semestre 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20 millions en provision pour un avenant AGETIPE (semestre 2) pour assurer la réalisation rapide d’une seconde vague de CSCOMS à réhabiliter / à confirm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évisions engagements 201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ns le PO 2010, sont prévu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millions au titre de la convention AGETI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1 millions pour le paiement UT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ntant restant à engag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092560"/>
                <a:gridCol w="3137040"/>
              </a:tblGrid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Solde de la composan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607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Engagements pr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 148 000 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este à engager d’ici 2011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59 094 7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7T10:28:18Z</dcterms:created>
  <dc:creator>Olivia Vella</dc:creator>
  <dc:description/>
  <dc:language>en-US</dc:language>
  <cp:lastModifiedBy>Administrateur1</cp:lastModifiedBy>
  <dcterms:modified xsi:type="dcterms:W3CDTF">2009-03-08T15:21:43Z</dcterms:modified>
  <cp:revision>10</cp:revision>
  <dc:subject/>
  <dc:title>PADSS</dc:title>
</cp:coreProperties>
</file>